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03120"/>
            <a:ext cx="14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84F5-FB8F-4CE2-A822-5236608C2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AEBA-5B69-4204-85B0-33512C74B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A517-A899-47EC-98CF-A0D33BA7E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DCA9-AC64-4313-91DC-EDEDF7CBF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7DE6-B665-470D-9230-909426041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9FAB-0DE6-47D9-8D90-7EAF318CC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7477-8F5D-42E2-AB15-176AA4D29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E051-A5F6-47B7-854C-D0FB80B7C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B181-A0F6-49AB-BE90-479CE234F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7C99-253D-4544-A90C-649BC238A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EA9E-C61D-44DA-8AB9-4C89EDF6E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49D2-C302-4F37-81AB-AF4A8A1F2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EE166-C18B-4141-BCD4-45E50A130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ransition of Slicer2.x Modules to Slicer3: ModelMaker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xtend ModelMaker to use MRML Color nod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Bill Lorensen, GE (consul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44792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44920" y="205740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Pass in a colour node to the ModelM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ommand line program, name models and colour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ccording to the look up 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1640" y="4921200"/>
            <a:ext cx="675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is project didn't get time devoted to it during programming week. Reloading a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of models requires modification of the CLI archite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200400"/>
            <a:ext cx="379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6827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his is a continuation of a previous programming week project, see next sl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75680" y="5931000"/>
            <a:ext cx="203040" cy="48960"/>
          </a:xfrm>
          <a:prstGeom prst="rect">
            <a:avLst/>
          </a:prstGeom>
          <a:solidFill>
            <a:srgbClr val="f4c098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  <a:ea typeface="msmincho"/>
              </a:rPr>
              <a:t>Migrating Slicer2.x Modules to Slicer3: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mincho"/>
              </a:rPr>
              <a:t>Integrate Slicer 2 modules into Slicer 3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600200"/>
            <a:ext cx="365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 </a:t>
            </a: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(algorithm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Nicole Aucoin, BWH (software)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Mathieu Malaterre, Kitware (softwa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Katie Hayes, BWH (tes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Bill Lorensen, GE (exec model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c1a0c"/>
                </a:solidFill>
                <a:latin typeface="Arial Narrow"/>
                <a:ea typeface="msmincho"/>
              </a:rPr>
              <a:t>(clin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447920"/>
            <a:ext cx="47246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Algorith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5240" y="1730520"/>
            <a:ext cx="246204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Software: Port to VTK 5, go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standard tests, move Model M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to Slicer 3 (CLI framework d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8400" y="2606760"/>
            <a:ext cx="7308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461609"/>
                </a:solidFill>
                <a:latin typeface="Arial Narrow"/>
                <a:ea typeface="msmincho"/>
              </a:rPr>
              <a:t>Clinical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1960" y="1170000"/>
            <a:ext cx="3565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520" y="1176480"/>
            <a:ext cx="668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200" y="3747960"/>
            <a:ext cx="414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4246560"/>
            <a:ext cx="180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2960" y="0"/>
            <a:ext cx="2923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msmincho"/>
              </a:rPr>
              <a:t>2006 Summer Pr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4920" y="219240"/>
            <a:ext cx="504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62"/>
              </a:spcBef>
              <a:spcAft>
                <a:spcPts val="96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62"/>
              </a:spcBef>
              <a:spcAft>
                <a:spcPts val="96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5320" y="4189320"/>
            <a:ext cx="38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Created nightly regression tests for Bas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vtkTensorUtil, vtkDTMR:I User:Mathieu/We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Converted Slicer 2.6 TCL ModelMak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VTK 5.0 C++ code and created a stand al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executable callable from Slicer3. Picture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overlay of Slicer 2 and Slicer 3 models (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due to different decimation class). Project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5229360"/>
            <a:ext cx="1714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6680" y="4253040"/>
            <a:ext cx="1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83240" y="1212840"/>
            <a:ext cx="2660760" cy="564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02200" y="3886200"/>
            <a:ext cx="2368440" cy="2487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